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22788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922788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ECDC176-4755-41EA-ACD6-D07371602FC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000000"/>
                </a:solidFill>
                <a:latin typeface="Arial"/>
              </a:rPr>
              <a:t>Eixos de posicionamento e diferenciação </a:t>
            </a: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– podem ser o produto, o serviço, o preço, o pessoal e a imagem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oduto: características físicas, performance, durabilidade, fiabilidade, estilo, design, etc.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Serviço: entrega, instalação, formação, consultoria, repar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eço: Preços mais baixos ou mais altos que os dos concorrentes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essoal: funcionários mais competentes e melhor formados que os dos concorrente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Imagem: características puramente simbólicas conferindo uma personalidade própria (original) ao produto (produtos de imagem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000000"/>
                </a:solidFill>
                <a:latin typeface="Arial"/>
              </a:rPr>
              <a:t>Factores de diferenciaçã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oduto – Funcionalidade, Performance, Durabilidade, Estilo, Design, Momentos de consumo, Modos de consumo, Target específic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Serviço - Prazos de entrega, Instalação, Formação, Aconselhament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eço - Preço de venda (muito alto ou baixo), Condições de pagament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essoal – Atendimento, Competência, Cortesia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Imagem - Solução/benefício do produto, Projecção social, Projecção individual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7EFC962-1AD3-4759-802B-684EBB9F6AB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Ver Power Point projasc2 – análise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91F0CB5-D748-481A-8F3E-EE8E02D3FF4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ED5F751-C10A-4DF5-A58E-A23DA0FA4AA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DF98077-B3F0-4BF1-87BE-9D5E88EBFEE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835-D213-4A5E-905A-18E2F4A3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9E8-849C-4CF1-A149-7DAFE43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F3E-63E1-49F5-B959-E37E5A0D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4CD-32FA-4D3F-8B2D-765AA030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BD1E-5B0D-4EA1-B2B0-A2D615E5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2C4-2AC9-48A8-B64C-8C28134F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2E71-DA79-4233-A5AC-B46C130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F8D7-34F5-432A-81B3-DFFD06BE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81DB-461A-4368-9DD0-5035245D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6336-046C-4201-9264-1376D9E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B09C-125F-4F15-BCEB-59861C63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D57-E030-452B-836C-817A8F48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042D-1D4A-4BB9-A358-DC308EF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3DC5-EBCE-46DB-909B-36BF7F8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08A1-776B-461C-AA3D-AE132C4E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200-A895-4492-B76D-495E9316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6EA8-9843-41F4-B7A1-751D690A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73F-DA88-4E58-B360-A14CC6DA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22A-B30F-47DC-9068-5B0D325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E2A-6FE3-4F88-99C6-8FA63610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B60-6A88-45FE-9ED1-FA39FAB8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F5D-C7CF-4B22-9887-5E2A87D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16A-FC7E-4D4A-B8B6-0148314F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ECE-D55B-4DBA-97CF-971CBB84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6FB8-CC26-4EF4-899F-F5A3F02720E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6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7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9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7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48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0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A04C-CC8D-44C1-8D84-EC6D49464FD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Sumário Executiv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17BE-AD5A-42F1-9F55-C98F5BAFBB0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280099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0040" y="1714680"/>
          <a:ext cx="8286840" cy="4357440"/>
        </p:xfrm>
        <a:graphic>
          <a:graphicData uri="http://schemas.openxmlformats.org/drawingml/2006/table">
            <a:tbl>
              <a:tblPr/>
              <a:tblGrid>
                <a:gridCol w="1036800"/>
                <a:gridCol w="1035000"/>
                <a:gridCol w="1036440"/>
                <a:gridCol w="1035000"/>
                <a:gridCol w="1036800"/>
                <a:gridCol w="1035000"/>
                <a:gridCol w="1036800"/>
                <a:gridCol w="10350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s de base e medida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1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2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3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4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5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6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a 7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1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2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3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4 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5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6 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7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2" name="Rectangle 2"/>
          <p:cNvSpPr/>
          <p:nvPr/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Quadro de Medidas</a:t>
            </a:r>
            <a:endParaRPr b="1" lang="en-US" sz="29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712040" y="20080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Meios de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305400" y="200808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Hipótese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799560" y="223056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Descrição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160080" y="2230560"/>
            <a:ext cx="10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Indicadore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4702680" y="223056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Verificação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6336360" y="2230560"/>
            <a:ext cx="55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Risco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84720" y="2470320"/>
            <a:ext cx="140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Objectivo geral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82560" y="2690640"/>
            <a:ext cx="191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(desenvolvimento ou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766440" y="2911320"/>
            <a:ext cx="61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global)</a:t>
            </a:r>
            <a:r>
              <a:rPr b="1" lang="ar-SA" sz="1400" spc="-1" strike="noStrike">
                <a:solidFill>
                  <a:srgbClr val="000000"/>
                </a:solidFill>
                <a:latin typeface="Monotype Corsiva"/>
                <a:ea typeface="Arial"/>
              </a:rPr>
              <a:t>‏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715680" y="3371760"/>
            <a:ext cx="110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Objectivo(s)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763200" y="3594240"/>
            <a:ext cx="113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específico(s)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38360" y="3814920"/>
            <a:ext cx="100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(imediatos)</a:t>
            </a:r>
            <a:r>
              <a:rPr b="1" lang="ar-SA" sz="1400" spc="-1" strike="noStrike">
                <a:solidFill>
                  <a:srgbClr val="000000"/>
                </a:solidFill>
                <a:latin typeface="Monotype Corsiva"/>
                <a:ea typeface="Arial"/>
              </a:rPr>
              <a:t>‏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58520" y="4275000"/>
            <a:ext cx="98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Resultado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710280" y="4735440"/>
            <a:ext cx="103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Actividade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783360" y="519588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onotype Corsiva"/>
              </a:rPr>
              <a:t>Recurso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2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4629240" y="2000160"/>
            <a:ext cx="3636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3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4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7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8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19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0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1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2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3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4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5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7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1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2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3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4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5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6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7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8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39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0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1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2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3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4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7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9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1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2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6" name="Rectangle 76"/>
          <p:cNvSpPr/>
          <p:nvPr/>
        </p:nvSpPr>
        <p:spPr>
          <a:xfrm>
            <a:off x="462924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7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8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9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1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2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3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4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5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6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7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8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69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2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3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4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5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6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7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Matriz de Planeamento de Projectos</a:t>
            </a:r>
            <a:endParaRPr b="1" lang="en-US" sz="29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571680" y="1857240"/>
          <a:ext cx="8001000" cy="421488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4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dade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lendário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ursos humano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ursos materiai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sto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ção responsável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 responsável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entários</a:t>
                      </a:r>
                      <a:endParaRPr b="1" lang="en-US" sz="9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1.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1.1 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1.2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1.3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2.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2.1 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dade 2.2</a:t>
                      </a: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lano Oper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B61-8B50-4A5F-8E5E-9E57D6634C1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2071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Posicionamento e Comunicação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ercados/Objectos Al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DCDA-C27F-4CFB-A0F9-CB2EF840F72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ixos de Posicion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143000"/>
          <a:ext cx="8291520" cy="4807080"/>
        </p:xfrm>
        <a:graphic>
          <a:graphicData uri="http://schemas.openxmlformats.org/drawingml/2006/table">
            <a:tbl>
              <a:tblPr/>
              <a:tblGrid>
                <a:gridCol w="1873440"/>
                <a:gridCol w="1655640"/>
                <a:gridCol w="4762440"/>
              </a:tblGrid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ixos de Posicionament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de Diferenc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604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0376-F295-42F7-BA24-4BABE6478B5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ix da Comunic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A351-B9E8-4E4D-9CA4-26D631DB95D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291" name="Group 31"/>
          <p:cNvGrpSpPr/>
          <p:nvPr/>
        </p:nvGrpSpPr>
        <p:grpSpPr>
          <a:xfrm>
            <a:off x="457200" y="1828800"/>
            <a:ext cx="8153280" cy="4038480"/>
            <a:chOff x="457200" y="1828800"/>
            <a:chExt cx="8153280" cy="4038480"/>
          </a:xfrm>
        </p:grpSpPr>
        <p:sp>
          <p:nvSpPr>
            <p:cNvPr id="292" name="Rectangle 4"/>
            <p:cNvSpPr/>
            <p:nvPr/>
          </p:nvSpPr>
          <p:spPr>
            <a:xfrm>
              <a:off x="3733920" y="182880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ix de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Comunicação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1523880" y="350532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edia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45720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Radio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251460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Imprensa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2438280" y="434340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7" name="Line 15"/>
            <p:cNvSpPr/>
            <p:nvPr/>
          </p:nvSpPr>
          <p:spPr>
            <a:xfrm>
              <a:off x="1371600" y="4648320"/>
              <a:ext cx="20574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137160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342900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0" name="Rectangle 20"/>
            <p:cNvSpPr/>
            <p:nvPr/>
          </p:nvSpPr>
          <p:spPr>
            <a:xfrm>
              <a:off x="6019920" y="350532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Outros Canai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1" name="Rectangle 21"/>
            <p:cNvSpPr/>
            <p:nvPr/>
          </p:nvSpPr>
          <p:spPr>
            <a:xfrm>
              <a:off x="495288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arketing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Directo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2" name="Rectangle 22"/>
            <p:cNvSpPr/>
            <p:nvPr/>
          </p:nvSpPr>
          <p:spPr>
            <a:xfrm>
              <a:off x="701028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Relaçõe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Pública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6934320" y="434340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>
              <a:off x="5867280" y="4648320"/>
              <a:ext cx="20574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>
              <a:off x="586728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792468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4648320" y="266688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2514600" y="2971800"/>
              <a:ext cx="449568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09" name="Line 29"/>
            <p:cNvSpPr/>
            <p:nvPr/>
          </p:nvSpPr>
          <p:spPr>
            <a:xfrm>
              <a:off x="2514600" y="2971800"/>
              <a:ext cx="0" cy="380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10" name="Line 30"/>
            <p:cNvSpPr/>
            <p:nvPr/>
          </p:nvSpPr>
          <p:spPr>
            <a:xfrm>
              <a:off x="7010280" y="2971800"/>
              <a:ext cx="0" cy="380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ix da Comunic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CEA-3FBA-4054-A39A-C5E995276DE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vestimento em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388-10D3-432D-BB51-B9861B71AF2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04920" y="1154160"/>
          <a:ext cx="8458200" cy="446256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914400"/>
                <a:gridCol w="1066680"/>
                <a:gridCol w="1067040"/>
                <a:gridCol w="990360"/>
                <a:gridCol w="10670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vestimen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.U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Line 203"/>
          <p:cNvSpPr/>
          <p:nvPr/>
        </p:nvSpPr>
        <p:spPr>
          <a:xfrm>
            <a:off x="304920" y="1143000"/>
            <a:ext cx="1523880" cy="7621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visão de Serviços Prestados</a:t>
            </a: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6BFB-D55D-46B7-B514-10229E37DEE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80880" y="1357200"/>
          <a:ext cx="8305920" cy="477540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is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Mens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Anu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1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nálise da Envolvente/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iagnóstico</a:t>
            </a:r>
            <a:br>
              <a:rPr sz="5400"/>
            </a:br>
            <a:br>
              <a:rPr sz="5400"/>
            </a:br>
            <a:r>
              <a:rPr b="1" i="1" lang="pt-PT" sz="2800" spc="-1" strike="noStrike">
                <a:solidFill>
                  <a:srgbClr val="000066"/>
                </a:solidFill>
                <a:latin typeface="Times New Roman"/>
              </a:rPr>
              <a:t> Análise do Ambiente Externo e Interno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D192-6685-4EDF-AA2A-A586CF41CF0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2A4C-B019-4E68-AF26-496E9B27E45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0" y="20001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Recursos Humanos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Competências da Equipa de Gest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02B2-6AF0-4FB9-9BB9-B3681D09CE6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28760" y="2643120"/>
          <a:ext cx="821664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3251160"/>
                <a:gridCol w="31366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g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m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286F-DF61-4512-9BDE-56F5775A628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328" name="Group 118"/>
          <p:cNvGrpSpPr/>
          <p:nvPr/>
        </p:nvGrpSpPr>
        <p:grpSpPr>
          <a:xfrm>
            <a:off x="4071960" y="2000160"/>
            <a:ext cx="3962160" cy="2285640"/>
            <a:chOff x="4071960" y="2000160"/>
            <a:chExt cx="3962160" cy="2285640"/>
          </a:xfrm>
        </p:grpSpPr>
        <p:sp>
          <p:nvSpPr>
            <p:cNvPr id="329" name="Rectangle 98"/>
            <p:cNvSpPr/>
            <p:nvPr/>
          </p:nvSpPr>
          <p:spPr>
            <a:xfrm>
              <a:off x="4566960" y="2000160"/>
              <a:ext cx="3042720" cy="8571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000" spc="-1" strike="noStrike">
                  <a:solidFill>
                    <a:srgbClr val="ffffff"/>
                  </a:solidFill>
                  <a:latin typeface="Times New Roman"/>
                </a:rPr>
                <a:t>Sócios-Gerentes</a:t>
              </a:r>
              <a:endParaRPr b="1" lang="en-US" sz="20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Director de Marketing e Operaçõe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Director Financeir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0" name="Rectangle 99"/>
            <p:cNvSpPr/>
            <p:nvPr/>
          </p:nvSpPr>
          <p:spPr>
            <a:xfrm>
              <a:off x="4071960" y="3643200"/>
              <a:ext cx="1698120" cy="642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Funcionário A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1" name="Rectangle 100"/>
            <p:cNvSpPr/>
            <p:nvPr/>
          </p:nvSpPr>
          <p:spPr>
            <a:xfrm>
              <a:off x="6336000" y="3643200"/>
              <a:ext cx="1698120" cy="642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Funcionário B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2" name="Line 101"/>
            <p:cNvSpPr/>
            <p:nvPr/>
          </p:nvSpPr>
          <p:spPr>
            <a:xfrm>
              <a:off x="6053040" y="2857320"/>
              <a:ext cx="0" cy="285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3" name="Line 102"/>
            <p:cNvSpPr/>
            <p:nvPr/>
          </p:nvSpPr>
          <p:spPr>
            <a:xfrm>
              <a:off x="4920840" y="3143160"/>
              <a:ext cx="23349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4" name="Line 103"/>
            <p:cNvSpPr/>
            <p:nvPr/>
          </p:nvSpPr>
          <p:spPr>
            <a:xfrm>
              <a:off x="4920840" y="3143160"/>
              <a:ext cx="0" cy="3567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35" name="Line 104"/>
            <p:cNvSpPr/>
            <p:nvPr/>
          </p:nvSpPr>
          <p:spPr>
            <a:xfrm>
              <a:off x="7256160" y="3143160"/>
              <a:ext cx="0" cy="3567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Responsabilidades e Tarefas dos Colaborador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F3D4-C932-458D-92D5-5AD53902DC8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1249200"/>
          <a:ext cx="8229600" cy="24498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32004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ef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ênci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apa de Trabalho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pt-PT" sz="2500" spc="-1" strike="noStrike">
                <a:solidFill>
                  <a:srgbClr val="000000"/>
                </a:solidFill>
                <a:latin typeface="Times New Roman"/>
              </a:rPr>
              <a:t>Verão (Maio - Setembr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667A-6CE0-4127-8B61-3E3CFF6501F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1081080"/>
          <a:ext cx="8229600" cy="4886280"/>
        </p:xfrm>
        <a:graphic>
          <a:graphicData uri="http://schemas.openxmlformats.org/drawingml/2006/table">
            <a:tbl>
              <a:tblPr/>
              <a:tblGrid>
                <a:gridCol w="1006560"/>
                <a:gridCol w="914400"/>
                <a:gridCol w="955440"/>
                <a:gridCol w="874800"/>
                <a:gridCol w="811440"/>
                <a:gridCol w="812520"/>
                <a:gridCol w="814680"/>
                <a:gridCol w="984240"/>
                <a:gridCol w="105552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a de Trabalh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gund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erç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r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in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x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ába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omingo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0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2" name="Group 213"/>
          <p:cNvGrpSpPr/>
          <p:nvPr/>
        </p:nvGrpSpPr>
        <p:grpSpPr>
          <a:xfrm>
            <a:off x="457200" y="6019920"/>
            <a:ext cx="4191120" cy="307080"/>
            <a:chOff x="457200" y="6019920"/>
            <a:chExt cx="4191120" cy="307080"/>
          </a:xfrm>
        </p:grpSpPr>
        <p:grpSp>
          <p:nvGrpSpPr>
            <p:cNvPr id="343" name="Group 212"/>
            <p:cNvGrpSpPr/>
            <p:nvPr/>
          </p:nvGrpSpPr>
          <p:grpSpPr>
            <a:xfrm>
              <a:off x="457200" y="6019920"/>
              <a:ext cx="3048120" cy="228600"/>
              <a:chOff x="457200" y="6019920"/>
              <a:chExt cx="3048120" cy="228600"/>
            </a:xfrm>
          </p:grpSpPr>
          <p:sp>
            <p:nvSpPr>
              <p:cNvPr id="344" name="Rectangle 169"/>
              <p:cNvSpPr/>
              <p:nvPr/>
            </p:nvSpPr>
            <p:spPr>
              <a:xfrm>
                <a:off x="457200" y="6019920"/>
                <a:ext cx="304920" cy="2286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345" name="Rectangle 170"/>
              <p:cNvSpPr/>
              <p:nvPr/>
            </p:nvSpPr>
            <p:spPr>
              <a:xfrm>
                <a:off x="3200400" y="6019920"/>
                <a:ext cx="304920" cy="2286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346" name="Text Box 171"/>
            <p:cNvSpPr/>
            <p:nvPr/>
          </p:nvSpPr>
          <p:spPr>
            <a:xfrm>
              <a:off x="7621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1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47" name="Text Box 172"/>
            <p:cNvSpPr/>
            <p:nvPr/>
          </p:nvSpPr>
          <p:spPr>
            <a:xfrm>
              <a:off x="35053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2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Recrutamento e Selecção de Pess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2990-D420-48EC-BF43-1B9DD6EDBE3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Horário de Trabalho e Remuneraçõ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E8FE-E3CF-41A5-BFAF-084D353C4D1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238400"/>
          <a:ext cx="8076960" cy="4483080"/>
        </p:xfrm>
        <a:graphic>
          <a:graphicData uri="http://schemas.openxmlformats.org/drawingml/2006/table">
            <a:tbl>
              <a:tblPr/>
              <a:tblGrid>
                <a:gridCol w="2133360"/>
                <a:gridCol w="2428920"/>
                <a:gridCol w="3514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g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ário de Trabalh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muneração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valiação do Desempen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1724-5B32-4412-A98F-120B8982DF7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520" y="1295280"/>
          <a:ext cx="8001000" cy="34322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 de Aval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ssific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ndimento ao Públic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mpenho da Fun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es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abi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iciênc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duidade/Pont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esent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ed-back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lanos de 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10666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58A5-3F9D-41C7-BD37-72183977C13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70B-2A8D-4C4F-B267-C6B0102F5F5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1714680"/>
            <a:ext cx="914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Gestão das Operações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nálise do Sector e do Meio Envolvente</a:t>
            </a: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pt-PT" sz="2200" spc="-1" strike="noStrike">
                <a:solidFill>
                  <a:srgbClr val="000000"/>
                </a:solidFill>
                <a:latin typeface="Times New Roman"/>
              </a:rPr>
              <a:t>Ambiente Exte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7400" y="1500120"/>
          <a:ext cx="7955280" cy="4915080"/>
        </p:xfrm>
        <a:graphic>
          <a:graphicData uri="http://schemas.openxmlformats.org/drawingml/2006/table">
            <a:tbl>
              <a:tblPr/>
              <a:tblGrid>
                <a:gridCol w="4586400"/>
                <a:gridCol w="33688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ortunidade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eaça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44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ECF2-608A-4CB0-8DEF-08F411F64E0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ctividades Internali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unções Internalizadas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7F82-C837-4DEA-8020-C5E8AAD07DE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52280" y="4419720"/>
            <a:ext cx="8839440" cy="1904760"/>
            <a:chOff x="152280" y="4419720"/>
            <a:chExt cx="8839440" cy="1904760"/>
          </a:xfrm>
        </p:grpSpPr>
        <p:sp>
          <p:nvSpPr>
            <p:cNvPr id="366" name="AutoShape 5"/>
            <p:cNvSpPr/>
            <p:nvPr/>
          </p:nvSpPr>
          <p:spPr>
            <a:xfrm>
              <a:off x="152280" y="4419720"/>
              <a:ext cx="2210040" cy="1904760"/>
            </a:xfrm>
            <a:custGeom>
              <a:avLst/>
              <a:gdLst>
                <a:gd name="textAreaLeft" fmla="*/ 0 w 2210040"/>
                <a:gd name="textAreaRight" fmla="*/ 2210400 w 22100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669900"/>
                  </a:solidFill>
                  <a:latin typeface="Times New Roman"/>
                </a:rPr>
                <a:t>      </a:t>
              </a: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Pesquisa e 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Desenvolviment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I&amp;D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Director de 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3500280" y="4419720"/>
              <a:ext cx="2428920" cy="190476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6" y="0"/>
                  </a:lnTo>
                  <a:lnTo>
                    <a:pt x="21600" y="10800"/>
                  </a:lnTo>
                  <a:lnTo>
                    <a:pt x="16856" y="21600"/>
                  </a:lnTo>
                  <a:lnTo>
                    <a:pt x="0" y="21600"/>
                  </a:lnTo>
                  <a:lnTo>
                    <a:pt x="4744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pt-PT" sz="1400" spc="-1" strike="noStrike">
                  <a:solidFill>
                    <a:srgbClr val="ff0000"/>
                  </a:solidFill>
                  <a:latin typeface="Times New Roman"/>
                </a:rPr>
                <a:t>Contabilidad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Contabilidade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Planos Investiment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i="1" lang="pt-PT" sz="1300" spc="-1" strike="noStrike">
                  <a:solidFill>
                    <a:srgbClr val="ff0000"/>
                  </a:solidFill>
                  <a:latin typeface="Times New Roman"/>
                </a:rPr>
                <a:t>Director Financeiro</a:t>
              </a: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5357880" y="4419720"/>
              <a:ext cx="2054160" cy="1904760"/>
            </a:xfrm>
            <a:custGeom>
              <a:avLst/>
              <a:gdLst>
                <a:gd name="textAreaLeft" fmla="*/ 0 w 2054160"/>
                <a:gd name="textAreaRight" fmla="*/ 2054520 w 205416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536" y="0"/>
                  </a:lnTo>
                  <a:lnTo>
                    <a:pt x="21600" y="10800"/>
                  </a:lnTo>
                  <a:lnTo>
                    <a:pt x="15536" y="21600"/>
                  </a:lnTo>
                  <a:lnTo>
                    <a:pt x="0" y="21600"/>
                  </a:lnTo>
                  <a:lnTo>
                    <a:pt x="6064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Estudos de Merca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Campanhas 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Publicitárias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  </a:t>
              </a: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Director de 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6858000" y="4419720"/>
              <a:ext cx="2133720" cy="190476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99"/>
                  </a:solidFill>
                  <a:latin typeface="Times New Roman"/>
                </a:rPr>
                <a:t>Serviço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 Self-service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Personaliza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Manutenção 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espaç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99"/>
                  </a:solidFill>
                  <a:latin typeface="Times New Roman"/>
                </a:rPr>
                <a:t>Funcionário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765440" y="4419720"/>
              <a:ext cx="2235240" cy="190476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24" y="0"/>
                  </a:lnTo>
                  <a:lnTo>
                    <a:pt x="21600" y="10800"/>
                  </a:lnTo>
                  <a:lnTo>
                    <a:pt x="16024" y="21600"/>
                  </a:lnTo>
                  <a:lnTo>
                    <a:pt x="0" y="21600"/>
                  </a:lnTo>
                  <a:lnTo>
                    <a:pt x="5576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0000"/>
                  </a:solidFill>
                  <a:latin typeface="Times New Roman"/>
                </a:rPr>
                <a:t>Compra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Aquisição Equipamento</a:t>
              </a: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Compra Consumíveis</a:t>
              </a: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200" spc="-1" strike="noStrike">
                  <a:solidFill>
                    <a:srgbClr val="ff0000"/>
                  </a:solidFill>
                  <a:latin typeface="Times New Roman"/>
                </a:rPr>
                <a:t>Director Financeir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ctividades Externali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23B9-DA29-4BB5-8D5F-A0D390BC016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73" name="Text Box 346"/>
          <p:cNvSpPr/>
          <p:nvPr/>
        </p:nvSpPr>
        <p:spPr>
          <a:xfrm>
            <a:off x="457200" y="1461960"/>
            <a:ext cx="807732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914400" algn="just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914400" algn="just">
              <a:lnSpc>
                <a:spcPct val="200000"/>
              </a:lnSpc>
              <a:buClr>
                <a:srgbClr val="eeece1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914400" algn="just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olítica de Operaç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A1B2-B4B2-4D2A-A796-4556836B4DB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57200" y="1461960"/>
          <a:ext cx="8229600" cy="4786560"/>
        </p:xfrm>
        <a:graphic>
          <a:graphicData uri="http://schemas.openxmlformats.org/drawingml/2006/table">
            <a:tbl>
              <a:tblPr/>
              <a:tblGrid>
                <a:gridCol w="2286000"/>
                <a:gridCol w="59436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4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lano de 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ornecedor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ntrolo de 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tc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89EE-91A0-4318-9192-7C9B707BF27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57200" y="2133720"/>
          <a:ext cx="8001000" cy="18288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914400"/>
                <a:gridCol w="1371600"/>
                <a:gridCol w="1523880"/>
                <a:gridCol w="1371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Line 57"/>
          <p:cNvSpPr/>
          <p:nvPr/>
        </p:nvSpPr>
        <p:spPr>
          <a:xfrm>
            <a:off x="19051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1" name="Line 58"/>
          <p:cNvSpPr/>
          <p:nvPr/>
        </p:nvSpPr>
        <p:spPr>
          <a:xfrm>
            <a:off x="30481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2" name="Line 60"/>
          <p:cNvSpPr/>
          <p:nvPr/>
        </p:nvSpPr>
        <p:spPr>
          <a:xfrm>
            <a:off x="548640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3" name="Line 61"/>
          <p:cNvSpPr/>
          <p:nvPr/>
        </p:nvSpPr>
        <p:spPr>
          <a:xfrm>
            <a:off x="708660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4" name="Line 62"/>
          <p:cNvSpPr/>
          <p:nvPr/>
        </p:nvSpPr>
        <p:spPr>
          <a:xfrm>
            <a:off x="70102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5" name="Line 63"/>
          <p:cNvSpPr/>
          <p:nvPr/>
        </p:nvSpPr>
        <p:spPr>
          <a:xfrm>
            <a:off x="693432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6" name="Line 64"/>
          <p:cNvSpPr/>
          <p:nvPr/>
        </p:nvSpPr>
        <p:spPr>
          <a:xfrm>
            <a:off x="72388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7" name="Line 65"/>
          <p:cNvSpPr/>
          <p:nvPr/>
        </p:nvSpPr>
        <p:spPr>
          <a:xfrm>
            <a:off x="716292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8" name="Line 66"/>
          <p:cNvSpPr/>
          <p:nvPr/>
        </p:nvSpPr>
        <p:spPr>
          <a:xfrm>
            <a:off x="426708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9" name="Line 67"/>
          <p:cNvSpPr/>
          <p:nvPr/>
        </p:nvSpPr>
        <p:spPr>
          <a:xfrm>
            <a:off x="685800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0" name="Line 68"/>
          <p:cNvSpPr/>
          <p:nvPr/>
        </p:nvSpPr>
        <p:spPr>
          <a:xfrm>
            <a:off x="67816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160020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3048120" y="2895480"/>
            <a:ext cx="228600" cy="2286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1905120" y="2895480"/>
            <a:ext cx="228600" cy="228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3048120" y="35812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3048120" y="21337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6" name="Line 86"/>
          <p:cNvSpPr/>
          <p:nvPr/>
        </p:nvSpPr>
        <p:spPr>
          <a:xfrm>
            <a:off x="38088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7" name="Rectangle 95"/>
          <p:cNvSpPr/>
          <p:nvPr/>
        </p:nvSpPr>
        <p:spPr>
          <a:xfrm>
            <a:off x="1905120" y="3581280"/>
            <a:ext cx="2286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8" name="Rectangle 98"/>
          <p:cNvSpPr/>
          <p:nvPr/>
        </p:nvSpPr>
        <p:spPr>
          <a:xfrm>
            <a:off x="990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358128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0" name="Rectangle 113"/>
          <p:cNvSpPr/>
          <p:nvPr/>
        </p:nvSpPr>
        <p:spPr>
          <a:xfrm>
            <a:off x="3276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2133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2" name="Rectangle 129"/>
          <p:cNvSpPr/>
          <p:nvPr/>
        </p:nvSpPr>
        <p:spPr>
          <a:xfrm>
            <a:off x="457200" y="3048120"/>
            <a:ext cx="5335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3" name="Rectangle 130"/>
          <p:cNvSpPr/>
          <p:nvPr/>
        </p:nvSpPr>
        <p:spPr>
          <a:xfrm>
            <a:off x="457200" y="2133720"/>
            <a:ext cx="5335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4" name="Rectangle 147"/>
          <p:cNvSpPr/>
          <p:nvPr/>
        </p:nvSpPr>
        <p:spPr>
          <a:xfrm>
            <a:off x="243828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5" name="Rectangle 151"/>
          <p:cNvSpPr/>
          <p:nvPr/>
        </p:nvSpPr>
        <p:spPr>
          <a:xfrm>
            <a:off x="4267080" y="3733920"/>
            <a:ext cx="7632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6" name="Rectangle 152"/>
          <p:cNvSpPr/>
          <p:nvPr/>
        </p:nvSpPr>
        <p:spPr>
          <a:xfrm>
            <a:off x="6705720" y="3733920"/>
            <a:ext cx="7596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7" name="Rectangle 153"/>
          <p:cNvSpPr/>
          <p:nvPr/>
        </p:nvSpPr>
        <p:spPr>
          <a:xfrm>
            <a:off x="7238880" y="3733920"/>
            <a:ext cx="7632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8" name="Rectangle 157"/>
          <p:cNvSpPr/>
          <p:nvPr/>
        </p:nvSpPr>
        <p:spPr>
          <a:xfrm>
            <a:off x="4267080" y="2666880"/>
            <a:ext cx="7632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09" name="Rectangle 158"/>
          <p:cNvSpPr/>
          <p:nvPr/>
        </p:nvSpPr>
        <p:spPr>
          <a:xfrm>
            <a:off x="6705720" y="2666880"/>
            <a:ext cx="7596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10" name="Rectangle 159"/>
          <p:cNvSpPr/>
          <p:nvPr/>
        </p:nvSpPr>
        <p:spPr>
          <a:xfrm>
            <a:off x="7238880" y="2666880"/>
            <a:ext cx="7632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11" name="AutoShape 170"/>
          <p:cNvSpPr/>
          <p:nvPr/>
        </p:nvSpPr>
        <p:spPr>
          <a:xfrm rot="16200000">
            <a:off x="1066680" y="114264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52560 h 1523880"/>
              <a:gd name="textAreaBottom" fmla="*/ 14713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5"/>
                  <a:pt x="10800" y="2390"/>
                </a:cubicBezTo>
                <a:lnTo>
                  <a:pt x="10800" y="8222"/>
                </a:lnTo>
                <a:cubicBezTo>
                  <a:pt x="10800" y="9417"/>
                  <a:pt x="16200" y="10612"/>
                  <a:pt x="21600" y="10612"/>
                </a:cubicBezTo>
                <a:cubicBezTo>
                  <a:pt x="16200" y="10612"/>
                  <a:pt x="10800" y="11807"/>
                  <a:pt x="10800" y="13002"/>
                </a:cubicBezTo>
                <a:lnTo>
                  <a:pt x="10800" y="19210"/>
                </a:lnTo>
                <a:cubicBezTo>
                  <a:pt x="10800" y="20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12" name="Text Box 171"/>
          <p:cNvSpPr/>
          <p:nvPr/>
        </p:nvSpPr>
        <p:spPr>
          <a:xfrm>
            <a:off x="457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13" name="Group 183"/>
          <p:cNvGrpSpPr/>
          <p:nvPr/>
        </p:nvGrpSpPr>
        <p:grpSpPr>
          <a:xfrm>
            <a:off x="2057400" y="1219320"/>
            <a:ext cx="6400800" cy="837720"/>
            <a:chOff x="2057400" y="1219320"/>
            <a:chExt cx="6400800" cy="837720"/>
          </a:xfrm>
        </p:grpSpPr>
        <p:sp>
          <p:nvSpPr>
            <p:cNvPr id="414" name="AutoShape 81"/>
            <p:cNvSpPr/>
            <p:nvPr/>
          </p:nvSpPr>
          <p:spPr>
            <a:xfrm rot="16200000">
              <a:off x="6210000" y="-190800"/>
              <a:ext cx="304920" cy="4191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45080 h 4191120"/>
                <a:gd name="textAreaBottom" fmla="*/ 4046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5"/>
                    <a:pt x="10800" y="2390"/>
                  </a:cubicBezTo>
                  <a:lnTo>
                    <a:pt x="10800" y="8222"/>
                  </a:lnTo>
                  <a:cubicBezTo>
                    <a:pt x="10800" y="9417"/>
                    <a:pt x="16200" y="10612"/>
                    <a:pt x="21600" y="10612"/>
                  </a:cubicBezTo>
                  <a:cubicBezTo>
                    <a:pt x="16200" y="10612"/>
                    <a:pt x="10800" y="11807"/>
                    <a:pt x="10800" y="13002"/>
                  </a:cubicBezTo>
                  <a:lnTo>
                    <a:pt x="10800" y="19210"/>
                  </a:lnTo>
                  <a:cubicBezTo>
                    <a:pt x="10800" y="2040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5" name="AutoShape 82"/>
            <p:cNvSpPr/>
            <p:nvPr/>
          </p:nvSpPr>
          <p:spPr>
            <a:xfrm rot="16200000">
              <a:off x="2971800" y="837720"/>
              <a:ext cx="304920" cy="21337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3800 h 2133720"/>
                <a:gd name="textAreaBottom" fmla="*/ 205992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5"/>
                    <a:pt x="10800" y="2390"/>
                  </a:cubicBezTo>
                  <a:lnTo>
                    <a:pt x="10800" y="8222"/>
                  </a:lnTo>
                  <a:cubicBezTo>
                    <a:pt x="10800" y="9417"/>
                    <a:pt x="16200" y="10612"/>
                    <a:pt x="21600" y="10612"/>
                  </a:cubicBezTo>
                  <a:cubicBezTo>
                    <a:pt x="16200" y="10612"/>
                    <a:pt x="10800" y="11807"/>
                    <a:pt x="10800" y="13002"/>
                  </a:cubicBezTo>
                  <a:lnTo>
                    <a:pt x="10800" y="19210"/>
                  </a:lnTo>
                  <a:cubicBezTo>
                    <a:pt x="10800" y="2040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6" name="Text Box 172"/>
            <p:cNvSpPr/>
            <p:nvPr/>
          </p:nvSpPr>
          <p:spPr>
            <a:xfrm>
              <a:off x="2362320" y="121932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Área 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7" name="Text Box 173"/>
            <p:cNvSpPr/>
            <p:nvPr/>
          </p:nvSpPr>
          <p:spPr>
            <a:xfrm>
              <a:off x="4800600" y="137160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Área de esper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418" name="Text Box 175"/>
          <p:cNvSpPr/>
          <p:nvPr/>
        </p:nvSpPr>
        <p:spPr>
          <a:xfrm rot="16200000">
            <a:off x="-121680" y="289188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5,30m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19" name="Line 179"/>
          <p:cNvSpPr/>
          <p:nvPr/>
        </p:nvSpPr>
        <p:spPr>
          <a:xfrm>
            <a:off x="8610480" y="2133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20" name="Text Box 181"/>
          <p:cNvSpPr/>
          <p:nvPr/>
        </p:nvSpPr>
        <p:spPr>
          <a:xfrm rot="16200000">
            <a:off x="8460000" y="312372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7,00m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21" name="Group 184"/>
          <p:cNvGrpSpPr/>
          <p:nvPr/>
        </p:nvGrpSpPr>
        <p:grpSpPr>
          <a:xfrm>
            <a:off x="228600" y="4038480"/>
            <a:ext cx="8229600" cy="764280"/>
            <a:chOff x="228600" y="4038480"/>
            <a:chExt cx="8229600" cy="764280"/>
          </a:xfrm>
        </p:grpSpPr>
        <p:sp>
          <p:nvSpPr>
            <p:cNvPr id="422" name="Line 83"/>
            <p:cNvSpPr/>
            <p:nvPr/>
          </p:nvSpPr>
          <p:spPr>
            <a:xfrm>
              <a:off x="4191120" y="4038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3" name="Line 84"/>
            <p:cNvSpPr/>
            <p:nvPr/>
          </p:nvSpPr>
          <p:spPr>
            <a:xfrm>
              <a:off x="457200" y="441972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4" name="Line 85"/>
            <p:cNvSpPr/>
            <p:nvPr/>
          </p:nvSpPr>
          <p:spPr>
            <a:xfrm>
              <a:off x="990720" y="40384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5" name="Text Box 176"/>
            <p:cNvSpPr/>
            <p:nvPr/>
          </p:nvSpPr>
          <p:spPr>
            <a:xfrm>
              <a:off x="586728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16,63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6" name="Text Box 177"/>
            <p:cNvSpPr/>
            <p:nvPr/>
          </p:nvSpPr>
          <p:spPr>
            <a:xfrm>
              <a:off x="213372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14,29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7" name="Line 178"/>
            <p:cNvSpPr/>
            <p:nvPr/>
          </p:nvSpPr>
          <p:spPr>
            <a:xfrm>
              <a:off x="3808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8" name="Text Box 180"/>
            <p:cNvSpPr/>
            <p:nvPr/>
          </p:nvSpPr>
          <p:spPr>
            <a:xfrm>
              <a:off x="22860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2,08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29" name="Text Box 182"/>
            <p:cNvSpPr/>
            <p:nvPr/>
          </p:nvSpPr>
          <p:spPr>
            <a:xfrm>
              <a:off x="4038480" y="4495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33,00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430" name="Rectangle 185"/>
          <p:cNvSpPr/>
          <p:nvPr/>
        </p:nvSpPr>
        <p:spPr>
          <a:xfrm>
            <a:off x="990720" y="2133720"/>
            <a:ext cx="609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31" name="Group 190"/>
          <p:cNvGrpSpPr/>
          <p:nvPr/>
        </p:nvGrpSpPr>
        <p:grpSpPr>
          <a:xfrm>
            <a:off x="380880" y="5105520"/>
            <a:ext cx="8620200" cy="1068840"/>
            <a:chOff x="380880" y="5105520"/>
            <a:chExt cx="8620200" cy="1068840"/>
          </a:xfrm>
        </p:grpSpPr>
        <p:sp>
          <p:nvSpPr>
            <p:cNvPr id="432" name="Rectangle 90"/>
            <p:cNvSpPr/>
            <p:nvPr/>
          </p:nvSpPr>
          <p:spPr>
            <a:xfrm>
              <a:off x="380880" y="5181480"/>
              <a:ext cx="2606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3" name="Rectangle 91"/>
            <p:cNvSpPr/>
            <p:nvPr/>
          </p:nvSpPr>
          <p:spPr>
            <a:xfrm>
              <a:off x="380880" y="5562720"/>
              <a:ext cx="260640" cy="2286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4" name="Rectangle 92"/>
            <p:cNvSpPr/>
            <p:nvPr/>
          </p:nvSpPr>
          <p:spPr>
            <a:xfrm>
              <a:off x="380880" y="5943600"/>
              <a:ext cx="26064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5" name="Rectangle 93"/>
            <p:cNvSpPr/>
            <p:nvPr/>
          </p:nvSpPr>
          <p:spPr>
            <a:xfrm>
              <a:off x="2719440" y="5181480"/>
              <a:ext cx="260280" cy="228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6" name="Rectangle 94"/>
            <p:cNvSpPr/>
            <p:nvPr/>
          </p:nvSpPr>
          <p:spPr>
            <a:xfrm>
              <a:off x="2719440" y="5562720"/>
              <a:ext cx="260280" cy="2286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7" name="Rectangle 96"/>
            <p:cNvSpPr/>
            <p:nvPr/>
          </p:nvSpPr>
          <p:spPr>
            <a:xfrm>
              <a:off x="2719440" y="5943600"/>
              <a:ext cx="2602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8" name="Rectangle 148"/>
            <p:cNvSpPr/>
            <p:nvPr/>
          </p:nvSpPr>
          <p:spPr>
            <a:xfrm>
              <a:off x="4886280" y="5181480"/>
              <a:ext cx="25884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39" name="Rectangle 149"/>
            <p:cNvSpPr/>
            <p:nvPr/>
          </p:nvSpPr>
          <p:spPr>
            <a:xfrm>
              <a:off x="4886280" y="5562720"/>
              <a:ext cx="25884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0" name="Rectangle 150"/>
            <p:cNvSpPr/>
            <p:nvPr/>
          </p:nvSpPr>
          <p:spPr>
            <a:xfrm>
              <a:off x="4886280" y="5943600"/>
              <a:ext cx="258840" cy="2286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1" name="Text Box 160"/>
            <p:cNvSpPr/>
            <p:nvPr/>
          </p:nvSpPr>
          <p:spPr>
            <a:xfrm>
              <a:off x="727200" y="5105520"/>
              <a:ext cx="156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X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2" name="Text Box 161"/>
            <p:cNvSpPr/>
            <p:nvPr/>
          </p:nvSpPr>
          <p:spPr>
            <a:xfrm>
              <a:off x="4929120" y="585792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H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3" name="Text Box 162"/>
            <p:cNvSpPr/>
            <p:nvPr/>
          </p:nvSpPr>
          <p:spPr>
            <a:xfrm>
              <a:off x="5145120" y="5486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4" name="Text Box 163"/>
            <p:cNvSpPr/>
            <p:nvPr/>
          </p:nvSpPr>
          <p:spPr>
            <a:xfrm>
              <a:off x="5145120" y="5105520"/>
              <a:ext cx="142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F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5" name="Text Box 164"/>
            <p:cNvSpPr/>
            <p:nvPr/>
          </p:nvSpPr>
          <p:spPr>
            <a:xfrm>
              <a:off x="2979720" y="5486400"/>
              <a:ext cx="181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T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6" name="Text Box 165"/>
            <p:cNvSpPr/>
            <p:nvPr/>
          </p:nvSpPr>
          <p:spPr>
            <a:xfrm>
              <a:off x="2979720" y="5867280"/>
              <a:ext cx="181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U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7" name="Text Box 166"/>
            <p:cNvSpPr/>
            <p:nvPr/>
          </p:nvSpPr>
          <p:spPr>
            <a:xfrm>
              <a:off x="3071880" y="5143680"/>
              <a:ext cx="15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8" name="Text Box 167"/>
            <p:cNvSpPr/>
            <p:nvPr/>
          </p:nvSpPr>
          <p:spPr>
            <a:xfrm>
              <a:off x="642960" y="5500800"/>
              <a:ext cx="181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Y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9" name="Text Box 168"/>
            <p:cNvSpPr/>
            <p:nvPr/>
          </p:nvSpPr>
          <p:spPr>
            <a:xfrm>
              <a:off x="727200" y="5867280"/>
              <a:ext cx="156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Z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50" name="Text Box 169"/>
            <p:cNvSpPr/>
            <p:nvPr/>
          </p:nvSpPr>
          <p:spPr>
            <a:xfrm>
              <a:off x="7397640" y="5105520"/>
              <a:ext cx="153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K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51" name="Rectangle 187"/>
            <p:cNvSpPr/>
            <p:nvPr/>
          </p:nvSpPr>
          <p:spPr>
            <a:xfrm>
              <a:off x="7209000" y="5181480"/>
              <a:ext cx="258480" cy="228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52" name="Text Box 188"/>
            <p:cNvSpPr/>
            <p:nvPr/>
          </p:nvSpPr>
          <p:spPr>
            <a:xfrm>
              <a:off x="7397640" y="5486400"/>
              <a:ext cx="16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L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53" name="Rectangle 189"/>
            <p:cNvSpPr/>
            <p:nvPr/>
          </p:nvSpPr>
          <p:spPr>
            <a:xfrm>
              <a:off x="7209000" y="5562720"/>
              <a:ext cx="2584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357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</a:t>
            </a:r>
            <a:br>
              <a:rPr sz="5400"/>
            </a:b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Projecções Financei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0C09-B643-4336-A0E7-66522E22443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Pressupostos 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Número de dias de funcionamen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R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azo médio de pagamen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azo médio de recebimen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axa de Inflaçã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EA7-F0F3-45A8-B772-921F07457FF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vestimentos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5F41-8631-4ED1-8B2E-B9159B0896B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785880" y="1000080"/>
          <a:ext cx="7848360" cy="4368960"/>
        </p:xfrm>
        <a:graphic>
          <a:graphicData uri="http://schemas.openxmlformats.org/drawingml/2006/table">
            <a:tbl>
              <a:tblPr/>
              <a:tblGrid>
                <a:gridCol w="1981080"/>
                <a:gridCol w="3276720"/>
                <a:gridCol w="25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vestiment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9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Previsão de Custos de Exploraçã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F0FA-C923-48C8-A11D-0A839423459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228600" y="1295280"/>
          <a:ext cx="8458200" cy="4892760"/>
        </p:xfrm>
        <a:graphic>
          <a:graphicData uri="http://schemas.openxmlformats.org/drawingml/2006/table">
            <a:tbl>
              <a:tblPr/>
              <a:tblGrid>
                <a:gridCol w="1905120"/>
                <a:gridCol w="1371600"/>
                <a:gridCol w="990360"/>
                <a:gridCol w="990720"/>
                <a:gridCol w="1066680"/>
                <a:gridCol w="1067040"/>
                <a:gridCol w="1066680"/>
              </a:tblGrid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ntes de Financiam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pitais Própri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pitais Alhei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mpréstimo bancário: €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Reembolsável no prazo de x ano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Prestação mensal de  €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ubsídi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Fundo Perdid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0936-8364-4052-94A1-3E9CE320DC8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04920" y="5106960"/>
          <a:ext cx="8534160" cy="11444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ama de Apoi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lume de Financiamen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Pretendi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dos Apoi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1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ILE´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stimento até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Demonstração de Resultados Prevision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12952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 Demonstração de Resultados transmite-nos nesta fase uma primeira noção sobre a sua viabilida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B881-299D-4DD4-87A2-8D76DE27CF5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72" name="Object 6"/>
          <p:cNvGraphicFramePr/>
          <p:nvPr/>
        </p:nvGraphicFramePr>
        <p:xfrm>
          <a:off x="609480" y="2819520"/>
          <a:ext cx="7848720" cy="30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19520"/>
                    <a:ext cx="784872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7"/>
          <p:cNvSpPr/>
          <p:nvPr/>
        </p:nvSpPr>
        <p:spPr>
          <a:xfrm>
            <a:off x="609480" y="5867280"/>
            <a:ext cx="762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 Em 2005 o Resultado Liquido é positivo, se contarmos somente 8 meses de remuneração no 1º ano, RL = 2.640 €).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rças e Fraquezas </a:t>
            </a:r>
            <a:br>
              <a:rPr sz="3100"/>
            </a:br>
            <a:r>
              <a:rPr b="1" i="1" lang="pt-PT" sz="2200" spc="-1" strike="noStrike">
                <a:solidFill>
                  <a:srgbClr val="000000"/>
                </a:solidFill>
                <a:latin typeface="Times New Roman"/>
              </a:rPr>
              <a:t>Ambiente Inte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4240" y="1571760"/>
          <a:ext cx="8077320" cy="4495680"/>
        </p:xfrm>
        <a:graphic>
          <a:graphicData uri="http://schemas.openxmlformats.org/drawingml/2006/table">
            <a:tbl>
              <a:tblPr/>
              <a:tblGrid>
                <a:gridCol w="4110120"/>
                <a:gridCol w="39672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ç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quez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0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691E-223F-4999-9DC6-79A8C6B088A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Cash-Flow Prevision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28600" y="1294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cash-flow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previsional ou a capacidade da empresa se auto-financiar 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F0D-379B-4176-BC07-90C8F5646A1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533520" y="2743200"/>
          <a:ext cx="80010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80010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6"/>
          <p:cNvSpPr/>
          <p:nvPr/>
        </p:nvSpPr>
        <p:spPr>
          <a:xfrm>
            <a:off x="609480" y="608004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Indicadores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</a:rPr>
              <a:t>Pay-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prazo de recuperação do investimento é 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VAL –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Valor Actualizado Líqu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VAL 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TIR –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Taxa Interna de Rentabilid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Valor da TIR é 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B581-FBC2-45AE-9262-8F929A03097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600" spc="-1" strike="noStrike">
                <a:solidFill>
                  <a:srgbClr val="000000"/>
                </a:solidFill>
                <a:latin typeface="Monotype Corsiva"/>
              </a:rPr>
              <a:t>ANEXO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1A48-43DD-4D9C-99C2-12FF4D9047C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018A-D17F-4B0F-BE07-A6A68A41C3F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S 1 – Curriculum Vitae dos Promotores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3DC0-C225-4305-8C38-746E2A29800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2 – Questionário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22E-9E9A-49F7-8E51-BCE0954035F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3 – Documentação técnica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Layout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Fotos das Instalações e Produtos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2CBA-72D2-425E-AF04-227CBE104B6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428760" y="3000240"/>
            <a:ext cx="82296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4 – Mapas previsionais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Mapa de Custos e Investimentos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Mapa de Origem e Aplicação de Fundos e Balanço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Demonstração de resultados e Cash-flow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B2D8-DDE0-42CB-B6EC-6E23434E84A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5 – Meios de Financiamento</a:t>
            </a:r>
            <a:br>
              <a:rPr sz="40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Empréstimo Bancário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Subsídio 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D768-50A3-4F52-9CF5-4EBD299B947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6 – Documentação legal e jurídica</a:t>
            </a:r>
            <a:br>
              <a:rPr sz="40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Passos para a Constituição da Empresa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Estatutos da XPTO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Árvore de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3840" y="1643040"/>
            <a:ext cx="85726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54200" indent="-571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ângulo 4"/>
          <p:cNvSpPr/>
          <p:nvPr/>
        </p:nvSpPr>
        <p:spPr>
          <a:xfrm>
            <a:off x="142884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572000" y="1857240"/>
            <a:ext cx="192888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Monotype Corsiva"/>
              </a:rPr>
              <a:t>Problema central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14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15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16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Conexão recta unidireccional 33"/>
          <p:cNvCxnSpPr/>
          <p:nvPr/>
        </p:nvCxnSpPr>
        <p:spPr>
          <a:xfrm flipH="1" flipV="1">
            <a:off x="5357520" y="2714040"/>
            <a:ext cx="7149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Rectângulo 34"/>
          <p:cNvSpPr/>
          <p:nvPr/>
        </p:nvSpPr>
        <p:spPr>
          <a:xfrm>
            <a:off x="192888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19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20" name="Rectângulo 36"/>
          <p:cNvSpPr/>
          <p:nvPr/>
        </p:nvSpPr>
        <p:spPr>
          <a:xfrm>
            <a:off x="35712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21" name="Rectângulo 37"/>
          <p:cNvSpPr/>
          <p:nvPr/>
        </p:nvSpPr>
        <p:spPr>
          <a:xfrm>
            <a:off x="178596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22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24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25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Rectângulo 44"/>
          <p:cNvSpPr/>
          <p:nvPr/>
        </p:nvSpPr>
        <p:spPr>
          <a:xfrm>
            <a:off x="307188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30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Rectângulo 46"/>
          <p:cNvSpPr/>
          <p:nvPr/>
        </p:nvSpPr>
        <p:spPr>
          <a:xfrm>
            <a:off x="42876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32" name="Conexão recta unidireccional 66"/>
          <p:cNvCxnSpPr/>
          <p:nvPr/>
        </p:nvCxnSpPr>
        <p:spPr>
          <a:xfrm flipV="1">
            <a:off x="928800" y="37144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34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35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36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Listagem dos Stakeholders/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1503360"/>
          <a:ext cx="8070840" cy="4467240"/>
        </p:xfrm>
        <a:graphic>
          <a:graphicData uri="http://schemas.openxmlformats.org/drawingml/2006/table">
            <a:tbl>
              <a:tblPr/>
              <a:tblGrid>
                <a:gridCol w="1455480"/>
                <a:gridCol w="1598760"/>
                <a:gridCol w="2617920"/>
                <a:gridCol w="2398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corren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os For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os Frac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4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D328-5299-4407-8C7A-615BCD83A0B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Objec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E7A1-45F8-4422-93F0-5F7EA30C270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Times New Roman"/>
              </a:rPr>
              <a:t>Árvore de Objec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2560" y="1642680"/>
            <a:ext cx="8715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54200" indent="-571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0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1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52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5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6" name="Rectângulo 36"/>
          <p:cNvSpPr/>
          <p:nvPr/>
        </p:nvSpPr>
        <p:spPr>
          <a:xfrm>
            <a:off x="357120" y="5072040"/>
            <a:ext cx="1285920" cy="928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7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58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60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61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66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7" name="Rectângulo 46"/>
          <p:cNvSpPr/>
          <p:nvPr/>
        </p:nvSpPr>
        <p:spPr>
          <a:xfrm>
            <a:off x="214200" y="4071960"/>
            <a:ext cx="150048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68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70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71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cxnSp>
        <p:nvCxnSpPr>
          <p:cNvPr id="172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Objectiv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E1CB-8E7E-4CD2-9988-C4B321BE734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143000"/>
          <a:ext cx="8458200" cy="5010120"/>
        </p:xfrm>
        <a:graphic>
          <a:graphicData uri="http://schemas.openxmlformats.org/drawingml/2006/table">
            <a:tbl>
              <a:tblPr/>
              <a:tblGrid>
                <a:gridCol w="1355760"/>
                <a:gridCol w="71024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jectiv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1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27Z</dcterms:created>
  <dc:creator>Ricardo Gonçalves</dc:creator>
  <dc:description/>
  <dc:language>en-US</dc:language>
  <cp:lastModifiedBy>Operador</cp:lastModifiedBy>
  <dcterms:modified xsi:type="dcterms:W3CDTF">2008-05-19T00:36:56Z</dcterms:modified>
  <cp:revision>267</cp:revision>
  <dc:subject/>
  <dc:title>Diapositivo 1</dc:title>
</cp:coreProperties>
</file>